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A3C-DCA3-4705-839B-CE6866E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3D8-BF1E-4D2C-B168-A041D609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A85-5510-40C8-AC96-0621A36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ED7-9E98-4274-905A-DF2AAD6B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DA65-6A28-461C-A4BF-F0E40B16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0390-FF27-4DA2-A69B-E9FAA95D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87D-9876-4E69-8C98-FF4BAA7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288-DB4F-4072-B8D0-1F313228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E4A3-8C87-4BB7-92CD-09226EF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C4D4-832D-46A2-A93F-FB3E8E9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7E8-91F1-4068-A601-A083A71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AF6-3AEB-4D99-9395-58F3CED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982-69E0-4D79-ABD4-637AE0D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DF5F-F1EF-477D-A001-1FCE192F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0928-E60D-4E5B-AFA7-378BAF5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C94E-8053-4EC7-B13B-8DF08C7D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521-31DB-4D15-B59A-71A999D6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61A-F149-4D80-9846-A664BA92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5E8-8DDD-4FAE-95CD-F530C942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6CA-290B-46F2-BA24-DB3920BC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C4D-28A7-4369-A9E1-4F578EE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2BA-1DFD-472E-98D1-6206C90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8B4-52A4-4E3B-A560-75915A7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5B7-C122-498B-9EDC-0ECFC451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B45-7A93-4E97-9E6C-6BC46BEF6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5F9-31EA-4A23-8E3F-D956F6EAEC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Arial"/>
              </a:rPr>
              <a:t>Демократия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арламент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ысший законодательный и представительный орган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няя па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вет Федерации – формируется из числа представителей избранных законодательными собраниями субъектов РФ, а также назначенных главами исполнительной власти субъектов РФ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жняя па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осударственная Дума – выборы осуществляются по партийным спискам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бирательные систе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Мажоритарная избирательн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я территория страны делится на округа. От каждого округа избирается один или несколько депутатов. Избранным считается депутат, который набрал большинство голосов по данному окру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яют две разновидности мажоритарной избирательной системы: абсолютного большинства (50%+1), относительного большинства (побеждает тот кто набрал голосов больше чем соперник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бирательные систе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опорциональ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и предыдущая предполагает наличие округов. От каждого округа избирается несколько кандид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депутатов в парламенте распределяется пропорционально числу завоеванных гол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арламентские фрак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артии большинств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артии меньшинства (оппозиция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блемы современной демократ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бор депутатов в законодательные органы производится самими политическими пар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 финансирования избирательной комп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кратия на деле не всегда может обеспечить равное участие граждан в выбо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удности в области международ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дведем итог и ответим на вопрос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итературе часто происходит отождествление понятий система и режим. Например, речь может идти о сталинском режиме и одновременно о созданной «великим вождем» политической сис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колько корректным является подобное отождест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ринципы и ценности демократи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арламентариз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роблемы современной демократ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итературе часто происходит отождествление понятий система и режим. Например, речь может идти о сталинском режиме и одновременно о созданной «великим вождем» политической сис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колько корректным является подобное отождест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емократ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литическая система, в которой политическая власть осуществляется свободно выражающим свою волю большинством граждан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ы и ценности демократи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овлас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большин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ажение прав меньшин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олитического плюра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с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авового и политического равенства гражд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кратическая политическая культура гражд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родовласт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2" name="Organization Chart 7"/>
          <p:cNvGrpSpPr/>
          <p:nvPr/>
        </p:nvGrpSpPr>
        <p:grpSpPr>
          <a:xfrm>
            <a:off x="910440" y="2047680"/>
            <a:ext cx="7790400" cy="2744640"/>
            <a:chOff x="910440" y="2047680"/>
            <a:chExt cx="7790400" cy="274464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5726880" y="2403720"/>
              <a:ext cx="229320" cy="207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3655440" y="2403360"/>
              <a:ext cx="229320" cy="207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5" name="_s1030"/>
            <p:cNvSpPr/>
            <p:nvPr/>
          </p:nvSpPr>
          <p:spPr>
            <a:xfrm>
              <a:off x="1872360" y="2047680"/>
              <a:ext cx="5866560" cy="127800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0066"/>
                  </a:solidFill>
                  <a:latin typeface="Tahoma"/>
                  <a:ea typeface="Arial"/>
                </a:rPr>
                <a:t>Референдум</a:t>
              </a:r>
              <a:r>
                <a:rPr b="0" lang="ru-RU" sz="1500" spc="-1" strike="noStrike">
                  <a:solidFill>
                    <a:srgbClr val="ffffff"/>
                  </a:solidFill>
                  <a:latin typeface="Tahoma"/>
                  <a:ea typeface="Arial"/>
                </a:rPr>
                <a:t>- </a:t>
              </a: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форма осуществления волеизъявлени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граждан, выражающаяся в голосовании по наиболе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 </a:t>
              </a: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значимым вопросам общегосударственного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регионального или местного масштаба.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910440" y="3554280"/>
              <a:ext cx="3647880" cy="123804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оддержка или отклонение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какого либо государственного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оект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5052960" y="3554280"/>
              <a:ext cx="3647880" cy="123804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Избрание депутатов в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едставительные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органы власти или должностных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лиц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сность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– открытость деятельности политических институтов, широкое информирование граждан о планах, намерениях, решениях, акциях всех органов государственной вла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мократ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ям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лебисцит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лияние граждан на процесс властвования ограничен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и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рание  представителей, представляющих интересы граждан в высших органах государственной в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арламентариз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1149120" y="1689120"/>
            <a:ext cx="6919560" cy="1703160"/>
            <a:chOff x="1149120" y="1689120"/>
            <a:chExt cx="6919560" cy="1703160"/>
          </a:xfrm>
        </p:grpSpPr>
        <p:cxnSp>
          <p:nvCxnSpPr>
            <p:cNvPr id="174" name="_s2052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686560" y="1068480"/>
              <a:ext cx="229320" cy="238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053"/>
            <p:cNvCxnSpPr>
              <a:stCxn id="178" idx="0"/>
              <a:endCxn id="176" idx="2"/>
            </p:cNvCxnSpPr>
            <p:nvPr/>
          </p:nvCxnSpPr>
          <p:spPr>
            <a:xfrm flipV="1">
              <a:off x="4609800" y="214560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054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304080" y="1068840"/>
              <a:ext cx="229320" cy="238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6" name="_s2055"/>
            <p:cNvSpPr/>
            <p:nvPr/>
          </p:nvSpPr>
          <p:spPr>
            <a:xfrm>
              <a:off x="2898720" y="1689120"/>
              <a:ext cx="3420720" cy="45720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инцип разделения власт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2056"/>
            <p:cNvSpPr/>
            <p:nvPr/>
          </p:nvSpPr>
          <p:spPr>
            <a:xfrm>
              <a:off x="114912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Законодатель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2057"/>
            <p:cNvSpPr/>
            <p:nvPr/>
          </p:nvSpPr>
          <p:spPr>
            <a:xfrm>
              <a:off x="353196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Исполнительная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2058"/>
            <p:cNvSpPr/>
            <p:nvPr/>
          </p:nvSpPr>
          <p:spPr>
            <a:xfrm>
              <a:off x="591480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Судеб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Rectangle 14"/>
          <p:cNvSpPr/>
          <p:nvPr/>
        </p:nvSpPr>
        <p:spPr>
          <a:xfrm>
            <a:off x="395280" y="3860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124000" y="4221000"/>
            <a:ext cx="456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10:38:11Z</dcterms:created>
  <dc:creator>User</dc:creator>
  <dc:description/>
  <dc:language>en-US</dc:language>
  <cp:lastModifiedBy>User</cp:lastModifiedBy>
  <dcterms:modified xsi:type="dcterms:W3CDTF">2020-05-17T08:33:31Z</dcterms:modified>
  <cp:revision>3</cp:revision>
  <dc:subject/>
  <dc:title>PowerPoint Presentation</dc:title>
</cp:coreProperties>
</file>